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8.png" ContentType="image/pn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9.jpeg" ContentType="image/jpeg"/>
  <Override PartName="/ppt/media/image3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5.jpeg" ContentType="image/jpeg"/>
  <Override PartName="/ppt/media/image41.jpeg" ContentType="image/jpe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9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5512-BCC6-4122-B7ED-DC5A3F4310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85CB-E44A-4972-BC59-825900FE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3668-1C46-4C72-B5B7-9FDEF6FA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28E8-C76A-41B8-917B-43DA824FE4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E891-E103-498C-B95C-8FBEEE7E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5C65-AC63-45F2-9B9E-6202817E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EF2C-8C10-430D-9FA5-CAF1DE69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365C-C145-4D3D-89E2-39E579C4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FD2E-31A3-47DD-B328-551CBCD5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A63D-CFFA-4EC3-81FF-429D9F3E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B615-0C72-4F7E-9D67-1F043421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04C8-667C-49A9-ADD7-D806F5E9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6B4B-4D95-41D1-A560-D2C4037FA569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22560" y="2376360"/>
            <a:ext cx="457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udy of Lif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Themes &amp; Concept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959520" y="457200"/>
            <a:ext cx="2032200" cy="3048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320" y="4735440"/>
            <a:ext cx="3581280" cy="1741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52280" y="444600"/>
            <a:ext cx="2895840" cy="1993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095880" y="4638600"/>
            <a:ext cx="2895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1389240"/>
            <a:ext cx="7924680" cy="5316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utiliz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ntinuity &amp; chang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inuity of life is based on heritable information in the form of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NA – the genetic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terial – carrie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iological informatio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rom 1 generatio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the nex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44722" b="7200"/>
          <a:stretch/>
        </p:blipFill>
        <p:spPr>
          <a:xfrm>
            <a:off x="5638680" y="2309760"/>
            <a:ext cx="2181240" cy="4548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52179" t="0" r="7458" b="7200"/>
          <a:stretch/>
        </p:blipFill>
        <p:spPr>
          <a:xfrm>
            <a:off x="7315200" y="2309760"/>
            <a:ext cx="15937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orm follows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 &amp; function are correlated at all levels of biological organiz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38280" y="2338560"/>
            <a:ext cx="65106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gula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gulatory mechanisms ensure a dynamic balance through feedback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0" b="7065"/>
          <a:stretch/>
        </p:blipFill>
        <p:spPr>
          <a:xfrm>
            <a:off x="38160" y="2806560"/>
            <a:ext cx="902952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terdependenc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 organism i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 island standing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o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1491" b="2998"/>
          <a:stretch/>
        </p:blipFill>
        <p:spPr>
          <a:xfrm>
            <a:off x="4589640" y="1066680"/>
            <a:ext cx="4554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cience, technology &amp; society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Science &amp; technology must function within the framework of societ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thic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8520" y="2743200"/>
            <a:ext cx="89391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mbrella concep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curring principles &amp; idea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versity &amp; un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ual aspects of life on Ear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09680" y="2098800"/>
            <a:ext cx="67820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25900" t="0" r="0" b="0"/>
          <a:stretch/>
        </p:blipFill>
        <p:spPr>
          <a:xfrm>
            <a:off x="0" y="0"/>
            <a:ext cx="3952800" cy="3511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35440" y="0"/>
            <a:ext cx="3327480" cy="4991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165800" y="0"/>
            <a:ext cx="2054520" cy="2743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rcRect l="0" t="2344" r="9355" b="11689"/>
          <a:stretch/>
        </p:blipFill>
        <p:spPr>
          <a:xfrm>
            <a:off x="4614840" y="4346640"/>
            <a:ext cx="4605480" cy="2587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0" y="3340080"/>
            <a:ext cx="2451240" cy="237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1828800" y="4635360"/>
            <a:ext cx="3124080" cy="2298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2286000" y="2895480"/>
            <a:ext cx="3048120" cy="2252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0" y="5423040"/>
            <a:ext cx="1319040" cy="1511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72200" y="2590920"/>
            <a:ext cx="3048120" cy="1790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rcRect l="8229" t="0" r="4125" b="0"/>
          <a:stretch/>
        </p:blipFill>
        <p:spPr>
          <a:xfrm>
            <a:off x="990720" y="5686560"/>
            <a:ext cx="12031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nity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360" y="330948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do organisms have in commo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y do similarities exist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867280" y="558720"/>
            <a:ext cx="30546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m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cience as a process of inquir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u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nergy transf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inuity &amp; Chang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lationship of structure to func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gul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terdependence in natu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cience, technology &amp; socie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0" t="0" r="0" b="889"/>
          <a:stretch/>
        </p:blipFill>
        <p:spPr>
          <a:xfrm>
            <a:off x="4495680" y="3535200"/>
            <a:ext cx="4572000" cy="3230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 explains diversity &amp; unit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Un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volutionary relationship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nected through a common ancest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vers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atural selec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daptations i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vironmen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perties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904080" cy="4572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rder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12952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produc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10666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rowth &amp;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222840" indent="-22284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evelopment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4038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spons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62485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omeostasi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6248520"/>
            <a:ext cx="2209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volutionary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222840" indent="-22284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41911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nergy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utiliza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evels of organiz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3597" r="0" b="3597"/>
          <a:stretch/>
        </p:blipFill>
        <p:spPr>
          <a:xfrm>
            <a:off x="685800" y="1320840"/>
            <a:ext cx="784872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0" r="0" b="3341"/>
          <a:stretch/>
        </p:blipFill>
        <p:spPr>
          <a:xfrm>
            <a:off x="2895480" y="380880"/>
            <a:ext cx="6150240" cy="6408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ach level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as emergent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perti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 is basic unit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3886200" y="1847880"/>
            <a:ext cx="5257800" cy="48578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124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ell theor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veloped with early microscop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karyo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ukaryo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versity of lif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differences are there between organisms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3 Domains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4800"/>
          <a:stretch/>
        </p:blipFill>
        <p:spPr>
          <a:xfrm>
            <a:off x="1066680" y="1600200"/>
            <a:ext cx="7174080" cy="5121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143000" y="1294560"/>
            <a:ext cx="693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, Archaea, Eukarya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rganizing syste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0" t="0" r="0" b="3591"/>
          <a:stretch/>
        </p:blipFill>
        <p:spPr>
          <a:xfrm>
            <a:off x="4724280" y="1511280"/>
            <a:ext cx="4187880" cy="5194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king sense out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f the divers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ierarchical schem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study themes of Biology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y is an ever expanding body of knowledg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o much to memorize it a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 to generaliz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reate a framework upon which to organize new knowledg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emes are fundamental in understanding the nature of living organism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ich science is growing the fastest in new knowledge?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IOLOGY!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257800" y="4352760"/>
            <a:ext cx="3352680" cy="2276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58880" y="2590920"/>
            <a:ext cx="4046400" cy="4114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436840" y="6323760"/>
            <a:ext cx="2611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r. Mary Claire K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7000" y="2133360"/>
            <a:ext cx="3143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enomic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proteomics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jects ar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riving research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cience as a process of inqui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81516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3517920"/>
            <a:ext cx="4803840" cy="1617480"/>
          </a:xfrm>
          <a:custGeom>
            <a:avLst/>
            <a:gdLst/>
            <a:ahLst/>
            <a:rect l="l" t="t" r="r" b="b"/>
            <a:pathLst>
              <a:path w="13346" h="4491">
                <a:moveTo>
                  <a:pt x="3349" y="10864"/>
                </a:moveTo>
                <a:cubicBezTo>
                  <a:pt x="3316" y="10864"/>
                  <a:pt x="3289" y="10803"/>
                  <a:pt x="3249" y="10815"/>
                </a:cubicBezTo>
                <a:cubicBezTo>
                  <a:pt x="3126" y="10852"/>
                  <a:pt x="2978" y="10966"/>
                  <a:pt x="2877" y="11038"/>
                </a:cubicBezTo>
                <a:cubicBezTo>
                  <a:pt x="2670" y="11187"/>
                  <a:pt x="2478" y="11370"/>
                  <a:pt x="2307" y="11559"/>
                </a:cubicBezTo>
                <a:cubicBezTo>
                  <a:pt x="2091" y="11797"/>
                  <a:pt x="1834" y="12133"/>
                  <a:pt x="1960" y="12477"/>
                </a:cubicBezTo>
                <a:cubicBezTo>
                  <a:pt x="2047" y="12716"/>
                  <a:pt x="2366" y="12839"/>
                  <a:pt x="2580" y="12923"/>
                </a:cubicBezTo>
                <a:cubicBezTo>
                  <a:pt x="2929" y="13060"/>
                  <a:pt x="3309" y="13152"/>
                  <a:pt x="3671" y="13246"/>
                </a:cubicBezTo>
                <a:cubicBezTo>
                  <a:pt x="4113" y="13361"/>
                  <a:pt x="4527" y="13433"/>
                  <a:pt x="4986" y="13419"/>
                </a:cubicBezTo>
                <a:cubicBezTo>
                  <a:pt x="5411" y="13406"/>
                  <a:pt x="5825" y="13269"/>
                  <a:pt x="6176" y="13022"/>
                </a:cubicBezTo>
                <a:cubicBezTo>
                  <a:pt x="6495" y="12797"/>
                  <a:pt x="6683" y="12460"/>
                  <a:pt x="6871" y="12129"/>
                </a:cubicBezTo>
                <a:cubicBezTo>
                  <a:pt x="7066" y="11787"/>
                  <a:pt x="7206" y="11387"/>
                  <a:pt x="7218" y="10988"/>
                </a:cubicBezTo>
                <a:cubicBezTo>
                  <a:pt x="7229" y="10612"/>
                  <a:pt x="7021" y="10300"/>
                  <a:pt x="6722" y="10096"/>
                </a:cubicBezTo>
                <a:cubicBezTo>
                  <a:pt x="6285" y="9798"/>
                  <a:pt x="5795" y="9763"/>
                  <a:pt x="5283" y="9773"/>
                </a:cubicBezTo>
                <a:cubicBezTo>
                  <a:pt x="4664" y="9785"/>
                  <a:pt x="4055" y="9952"/>
                  <a:pt x="3497" y="10220"/>
                </a:cubicBezTo>
                <a:cubicBezTo>
                  <a:pt x="2950" y="10483"/>
                  <a:pt x="2333" y="10905"/>
                  <a:pt x="2183" y="11534"/>
                </a:cubicBezTo>
                <a:cubicBezTo>
                  <a:pt x="2083" y="11955"/>
                  <a:pt x="2257" y="12312"/>
                  <a:pt x="2580" y="12576"/>
                </a:cubicBezTo>
                <a:cubicBezTo>
                  <a:pt x="3132" y="13028"/>
                  <a:pt x="3889" y="13060"/>
                  <a:pt x="4564" y="12998"/>
                </a:cubicBezTo>
                <a:cubicBezTo>
                  <a:pt x="5224" y="12937"/>
                  <a:pt x="5920" y="12777"/>
                  <a:pt x="6524" y="12502"/>
                </a:cubicBezTo>
                <a:cubicBezTo>
                  <a:pt x="6873" y="12343"/>
                  <a:pt x="7334" y="12094"/>
                  <a:pt x="7441" y="11683"/>
                </a:cubicBezTo>
                <a:cubicBezTo>
                  <a:pt x="7514" y="11403"/>
                  <a:pt x="7334" y="11135"/>
                  <a:pt x="7094" y="11013"/>
                </a:cubicBezTo>
                <a:cubicBezTo>
                  <a:pt x="6963" y="10947"/>
                  <a:pt x="6447" y="10801"/>
                  <a:pt x="6350" y="11013"/>
                </a:cubicBezTo>
                <a:cubicBezTo>
                  <a:pt x="6255" y="11220"/>
                  <a:pt x="6365" y="11160"/>
                  <a:pt x="6499" y="11286"/>
                </a:cubicBezTo>
              </a:path>
              <a:path w="13346" h="4491">
                <a:moveTo>
                  <a:pt x="9947" y="10864"/>
                </a:moveTo>
                <a:cubicBezTo>
                  <a:pt x="9846" y="10949"/>
                  <a:pt x="9769" y="10962"/>
                  <a:pt x="9649" y="11038"/>
                </a:cubicBezTo>
                <a:cubicBezTo>
                  <a:pt x="9439" y="11170"/>
                  <a:pt x="9325" y="11392"/>
                  <a:pt x="9227" y="11609"/>
                </a:cubicBezTo>
                <a:cubicBezTo>
                  <a:pt x="9129" y="11826"/>
                  <a:pt x="9101" y="12088"/>
                  <a:pt x="9227" y="12303"/>
                </a:cubicBezTo>
                <a:cubicBezTo>
                  <a:pt x="9407" y="12610"/>
                  <a:pt x="9847" y="12690"/>
                  <a:pt x="10170" y="12700"/>
                </a:cubicBezTo>
                <a:cubicBezTo>
                  <a:pt x="10716" y="12716"/>
                  <a:pt x="11339" y="12582"/>
                  <a:pt x="11832" y="12353"/>
                </a:cubicBezTo>
                <a:cubicBezTo>
                  <a:pt x="12103" y="12227"/>
                  <a:pt x="12199" y="12148"/>
                  <a:pt x="12303" y="11906"/>
                </a:cubicBezTo>
                <a:cubicBezTo>
                  <a:pt x="12026" y="11677"/>
                  <a:pt x="11713" y="11748"/>
                  <a:pt x="11361" y="11832"/>
                </a:cubicBezTo>
                <a:cubicBezTo>
                  <a:pt x="10780" y="11971"/>
                  <a:pt x="10240" y="12241"/>
                  <a:pt x="9847" y="12700"/>
                </a:cubicBezTo>
                <a:cubicBezTo>
                  <a:pt x="9567" y="13027"/>
                  <a:pt x="9406" y="13530"/>
                  <a:pt x="9674" y="13915"/>
                </a:cubicBezTo>
                <a:cubicBezTo>
                  <a:pt x="10026" y="14421"/>
                  <a:pt x="10823" y="14259"/>
                  <a:pt x="11311" y="14163"/>
                </a:cubicBezTo>
                <a:cubicBezTo>
                  <a:pt x="11986" y="14030"/>
                  <a:pt x="12744" y="13809"/>
                  <a:pt x="13196" y="13246"/>
                </a:cubicBezTo>
                <a:cubicBezTo>
                  <a:pt x="13473" y="12901"/>
                  <a:pt x="13376" y="12447"/>
                  <a:pt x="12998" y="12229"/>
                </a:cubicBezTo>
                <a:cubicBezTo>
                  <a:pt x="12695" y="12127"/>
                  <a:pt x="12590" y="12093"/>
                  <a:pt x="12378" y="12055"/>
                </a:cubicBezTo>
              </a:path>
              <a:path w="13346" h="4491">
                <a:moveTo>
                  <a:pt x="0" y="10492"/>
                </a:moveTo>
                <a:lnTo>
                  <a:pt x="0" y="10492"/>
                </a:lnTo>
              </a:path>
              <a:path w="13346" h="4491">
                <a:moveTo>
                  <a:pt x="0" y="10492"/>
                </a:moveTo>
                <a:lnTo>
                  <a:pt x="0" y="1049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90800" y="3340080"/>
            <a:ext cx="6813360" cy="1857240"/>
          </a:xfrm>
          <a:custGeom>
            <a:avLst/>
            <a:gdLst/>
            <a:ahLst/>
            <a:rect l="l" t="t" r="r" b="b"/>
            <a:pathLst>
              <a:path w="18927" h="5160">
                <a:moveTo>
                  <a:pt x="5531" y="13866"/>
                </a:moveTo>
                <a:cubicBezTo>
                  <a:pt x="5612" y="13856"/>
                  <a:pt x="5738" y="13827"/>
                  <a:pt x="5829" y="13816"/>
                </a:cubicBezTo>
                <a:cubicBezTo>
                  <a:pt x="6487" y="13735"/>
                  <a:pt x="7152" y="13695"/>
                  <a:pt x="7813" y="13643"/>
                </a:cubicBezTo>
                <a:cubicBezTo>
                  <a:pt x="8688" y="13574"/>
                  <a:pt x="9566" y="13544"/>
                  <a:pt x="10443" y="13494"/>
                </a:cubicBezTo>
                <a:cubicBezTo>
                  <a:pt x="10674" y="13481"/>
                  <a:pt x="11093" y="13487"/>
                  <a:pt x="11311" y="13370"/>
                </a:cubicBezTo>
                <a:cubicBezTo>
                  <a:pt x="11311" y="13312"/>
                  <a:pt x="11311" y="13287"/>
                  <a:pt x="11311" y="13246"/>
                </a:cubicBezTo>
                <a:cubicBezTo>
                  <a:pt x="10777" y="12693"/>
                  <a:pt x="10258" y="12033"/>
                  <a:pt x="9500" y="11807"/>
                </a:cubicBezTo>
                <a:cubicBezTo>
                  <a:pt x="8864" y="11617"/>
                  <a:pt x="7988" y="11662"/>
                  <a:pt x="7367" y="11857"/>
                </a:cubicBezTo>
                <a:cubicBezTo>
                  <a:pt x="7244" y="11896"/>
                  <a:pt x="6468" y="12181"/>
                  <a:pt x="6474" y="12427"/>
                </a:cubicBezTo>
                <a:cubicBezTo>
                  <a:pt x="6480" y="12674"/>
                  <a:pt x="6593" y="12675"/>
                  <a:pt x="6846" y="12750"/>
                </a:cubicBezTo>
                <a:cubicBezTo>
                  <a:pt x="7368" y="12905"/>
                  <a:pt x="8168" y="12744"/>
                  <a:pt x="8657" y="12526"/>
                </a:cubicBezTo>
                <a:cubicBezTo>
                  <a:pt x="8749" y="12485"/>
                  <a:pt x="8901" y="12380"/>
                  <a:pt x="8954" y="12353"/>
                </a:cubicBezTo>
                <a:cubicBezTo>
                  <a:pt x="8700" y="12201"/>
                  <a:pt x="8543" y="12026"/>
                  <a:pt x="8161" y="11981"/>
                </a:cubicBezTo>
                <a:cubicBezTo>
                  <a:pt x="7679" y="11924"/>
                  <a:pt x="7042" y="11913"/>
                  <a:pt x="6598" y="12129"/>
                </a:cubicBezTo>
                <a:cubicBezTo>
                  <a:pt x="6209" y="12318"/>
                  <a:pt x="6198" y="12743"/>
                  <a:pt x="6077" y="13097"/>
                </a:cubicBezTo>
                <a:cubicBezTo>
                  <a:pt x="6368" y="13556"/>
                  <a:pt x="6452" y="13837"/>
                  <a:pt x="7193" y="13742"/>
                </a:cubicBezTo>
                <a:cubicBezTo>
                  <a:pt x="8305" y="13600"/>
                  <a:pt x="9531" y="12753"/>
                  <a:pt x="10244" y="11906"/>
                </a:cubicBezTo>
                <a:cubicBezTo>
                  <a:pt x="10323" y="11769"/>
                  <a:pt x="10357" y="11753"/>
                  <a:pt x="10344" y="11658"/>
                </a:cubicBezTo>
                <a:cubicBezTo>
                  <a:pt x="9643" y="11639"/>
                  <a:pt x="9087" y="11741"/>
                  <a:pt x="8384" y="12005"/>
                </a:cubicBezTo>
                <a:cubicBezTo>
                  <a:pt x="7754" y="12241"/>
                  <a:pt x="7323" y="12593"/>
                  <a:pt x="6821" y="12923"/>
                </a:cubicBezTo>
                <a:cubicBezTo>
                  <a:pt x="7047" y="13144"/>
                  <a:pt x="7013" y="13341"/>
                  <a:pt x="7491" y="13419"/>
                </a:cubicBezTo>
                <a:cubicBezTo>
                  <a:pt x="8985" y="13663"/>
                  <a:pt x="11034" y="13058"/>
                  <a:pt x="11807" y="11658"/>
                </a:cubicBezTo>
                <a:cubicBezTo>
                  <a:pt x="11859" y="11275"/>
                  <a:pt x="11872" y="11140"/>
                  <a:pt x="11757" y="10889"/>
                </a:cubicBezTo>
                <a:cubicBezTo>
                  <a:pt x="10442" y="10126"/>
                  <a:pt x="9173" y="10395"/>
                  <a:pt x="7739" y="11063"/>
                </a:cubicBezTo>
                <a:cubicBezTo>
                  <a:pt x="6878" y="11464"/>
                  <a:pt x="6653" y="11781"/>
                  <a:pt x="6300" y="12477"/>
                </a:cubicBezTo>
                <a:cubicBezTo>
                  <a:pt x="7135" y="13181"/>
                  <a:pt x="7613" y="13498"/>
                  <a:pt x="8855" y="13469"/>
                </a:cubicBezTo>
                <a:cubicBezTo>
                  <a:pt x="10906" y="13421"/>
                  <a:pt x="13219" y="12503"/>
                  <a:pt x="14139" y="10542"/>
                </a:cubicBezTo>
                <a:cubicBezTo>
                  <a:pt x="14264" y="10044"/>
                  <a:pt x="14345" y="9940"/>
                  <a:pt x="14188" y="9649"/>
                </a:cubicBezTo>
                <a:cubicBezTo>
                  <a:pt x="12917" y="9602"/>
                  <a:pt x="12071" y="9700"/>
                  <a:pt x="10840" y="10492"/>
                </a:cubicBezTo>
                <a:cubicBezTo>
                  <a:pt x="10091" y="10974"/>
                  <a:pt x="9217" y="11873"/>
                  <a:pt x="9351" y="12849"/>
                </a:cubicBezTo>
                <a:cubicBezTo>
                  <a:pt x="9520" y="14080"/>
                  <a:pt x="10985" y="14400"/>
                  <a:pt x="12005" y="14436"/>
                </a:cubicBezTo>
                <a:cubicBezTo>
                  <a:pt x="12991" y="14347"/>
                  <a:pt x="13259" y="14361"/>
                  <a:pt x="13791" y="13990"/>
                </a:cubicBezTo>
                <a:cubicBezTo>
                  <a:pt x="14243" y="13607"/>
                  <a:pt x="14262" y="13708"/>
                  <a:pt x="14139" y="13146"/>
                </a:cubicBezTo>
                <a:cubicBezTo>
                  <a:pt x="13953" y="12294"/>
                  <a:pt x="12987" y="12413"/>
                  <a:pt x="12402" y="12452"/>
                </a:cubicBezTo>
                <a:cubicBezTo>
                  <a:pt x="12407" y="12626"/>
                  <a:pt x="12183" y="12892"/>
                  <a:pt x="12402" y="13072"/>
                </a:cubicBezTo>
                <a:cubicBezTo>
                  <a:pt x="13206" y="13733"/>
                  <a:pt x="14305" y="13257"/>
                  <a:pt x="15106" y="12774"/>
                </a:cubicBezTo>
                <a:cubicBezTo>
                  <a:pt x="16370" y="12011"/>
                  <a:pt x="17202" y="10861"/>
                  <a:pt x="17760" y="9550"/>
                </a:cubicBezTo>
                <a:cubicBezTo>
                  <a:pt x="15865" y="9126"/>
                  <a:pt x="13828" y="10272"/>
                  <a:pt x="12080" y="11212"/>
                </a:cubicBezTo>
                <a:cubicBezTo>
                  <a:pt x="11277" y="11644"/>
                  <a:pt x="10702" y="12191"/>
                  <a:pt x="10096" y="12700"/>
                </a:cubicBezTo>
                <a:cubicBezTo>
                  <a:pt x="10918" y="13207"/>
                  <a:pt x="11533" y="13410"/>
                  <a:pt x="12601" y="13469"/>
                </a:cubicBezTo>
                <a:cubicBezTo>
                  <a:pt x="12684" y="13474"/>
                  <a:pt x="14740" y="13617"/>
                  <a:pt x="14759" y="13047"/>
                </a:cubicBezTo>
                <a:cubicBezTo>
                  <a:pt x="14766" y="12845"/>
                  <a:pt x="14165" y="12671"/>
                  <a:pt x="14362" y="12626"/>
                </a:cubicBezTo>
                <a:cubicBezTo>
                  <a:pt x="14671" y="12556"/>
                  <a:pt x="14939" y="12705"/>
                  <a:pt x="15255" y="12700"/>
                </a:cubicBezTo>
                <a:cubicBezTo>
                  <a:pt x="16878" y="12673"/>
                  <a:pt x="18431" y="12387"/>
                  <a:pt x="20042" y="12303"/>
                </a:cubicBezTo>
                <a:cubicBezTo>
                  <a:pt x="20599" y="12274"/>
                  <a:pt x="21085" y="12354"/>
                  <a:pt x="21679" y="12278"/>
                </a:cubicBezTo>
                <a:cubicBezTo>
                  <a:pt x="22600" y="12160"/>
                  <a:pt x="23505" y="11961"/>
                  <a:pt x="24309" y="11509"/>
                </a:cubicBezTo>
                <a:cubicBezTo>
                  <a:pt x="24317" y="11476"/>
                  <a:pt x="24325" y="11443"/>
                  <a:pt x="24333" y="11410"/>
                </a:cubicBezTo>
                <a:cubicBezTo>
                  <a:pt x="23960" y="11037"/>
                  <a:pt x="23816" y="10921"/>
                  <a:pt x="23192" y="10864"/>
                </a:cubicBezTo>
                <a:cubicBezTo>
                  <a:pt x="22166" y="10771"/>
                  <a:pt x="21421" y="11484"/>
                  <a:pt x="21208" y="12452"/>
                </a:cubicBezTo>
                <a:cubicBezTo>
                  <a:pt x="21185" y="12792"/>
                  <a:pt x="21171" y="12885"/>
                  <a:pt x="21233" y="13097"/>
                </a:cubicBezTo>
                <a:cubicBezTo>
                  <a:pt x="22017" y="13411"/>
                  <a:pt x="22424" y="13581"/>
                  <a:pt x="23316" y="13022"/>
                </a:cubicBezTo>
                <a:cubicBezTo>
                  <a:pt x="23748" y="12751"/>
                  <a:pt x="24934" y="11300"/>
                  <a:pt x="24457" y="10691"/>
                </a:cubicBezTo>
                <a:cubicBezTo>
                  <a:pt x="24131" y="10274"/>
                  <a:pt x="23587" y="10074"/>
                  <a:pt x="23044" y="10071"/>
                </a:cubicBezTo>
                <a:cubicBezTo>
                  <a:pt x="22646" y="10069"/>
                  <a:pt x="22892" y="10147"/>
                  <a:pt x="22671" y="10368"/>
                </a:cubicBezTo>
                <a:cubicBezTo>
                  <a:pt x="22405" y="10874"/>
                  <a:pt x="22318" y="11070"/>
                  <a:pt x="22349" y="1148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cience as a process of inqui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1240" b="3597"/>
          <a:stretch/>
        </p:blipFill>
        <p:spPr>
          <a:xfrm>
            <a:off x="3798720" y="1347840"/>
            <a:ext cx="5268960" cy="530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1055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peatable observations &amp; testable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flipH="1">
            <a:off x="914400" y="2666880"/>
            <a:ext cx="26733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flipH="1">
            <a:off x="1171080" y="2057400"/>
            <a:ext cx="3629160" cy="46116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re theme of biolo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81480" y="2025720"/>
            <a:ext cx="3382920" cy="468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79040" y="6201360"/>
            <a:ext cx="2212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Charles Darwi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atural sele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utionary adaptation is a product of natural selec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5181480" y="685800"/>
            <a:ext cx="378324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Nothing in biology makes sense except</a:t>
            </a:r>
            <a:r>
              <a:rPr b="0" lang="en-US" sz="33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660066"/>
                </a:solidFill>
                <a:latin typeface="Arial"/>
              </a:rPr>
              <a:t>in the light of evolution.</a:t>
            </a:r>
            <a:endParaRPr b="1" lang="en-US" sz="33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905120" y="464796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f116a"/>
                </a:solidFill>
                <a:latin typeface="Arial"/>
              </a:rPr>
              <a:t>— </a:t>
            </a:r>
            <a:r>
              <a:rPr b="1" lang="en-US" sz="2100" spc="-1" strike="noStrike">
                <a:solidFill>
                  <a:srgbClr val="0f116a"/>
                </a:solidFill>
                <a:latin typeface="Arial"/>
              </a:rPr>
              <a:t>Theodosius Dobzhansky</a:t>
            </a:r>
            <a:endParaRPr b="1" lang="en-US" sz="21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10080" y="457200"/>
            <a:ext cx="3581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atural sele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utionary adaptation is a product of natural selec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4419720" cy="2949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76760" y="2970360"/>
            <a:ext cx="43149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1092" b="3597"/>
          <a:stretch/>
        </p:blipFill>
        <p:spPr>
          <a:xfrm>
            <a:off x="4343400" y="2668680"/>
            <a:ext cx="4648320" cy="4113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transf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fe is an open system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rganisms continuously interac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ith the environm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uff comes in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uff goes ou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is us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8840" y="5866560"/>
            <a:ext cx="276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ntropy rules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Education WD Interactive</cp:keywords>
  <dc:language>en-US</dc:language>
  <cp:lastModifiedBy> </cp:lastModifiedBy>
  <cp:lastPrinted>2004-09-08T23:23:27Z</cp:lastPrinted>
  <dcterms:modified xsi:type="dcterms:W3CDTF">2007-09-05T18:05:24Z</dcterms:modified>
  <cp:revision>253</cp:revision>
  <dc:subject>AP &amp; Regents Biology</dc:subject>
  <dc:title>AP &amp; Regents Biology</dc:title>
</cp:coreProperties>
</file>